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CEE-EA4E-4D2B-98FD-3A525EE3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0CC-4393-4901-A588-F9A7AB62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5E685-CDFE-4CE3-9B41-B118E87F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A0AC8-1BD1-4F2D-B96E-06E5EDBA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540BD-310C-45DC-BB4F-B88AAB82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FEFE7-8519-475A-B2F0-6A03D02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8CEE1-5A01-4B6D-853A-722DC89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1A098-0C19-4E8E-944C-3C29A86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1EC34-853E-4CD0-AFAB-98C8D129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D0061-35A5-42FF-80F9-157F072B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4BD14-B5E6-4AC3-807B-E69FBBBC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15891-A340-4D79-8365-57E2A694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0DA-24FD-4D30-AC60-2B4BD6D0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D336F-AF6A-4FA1-9C50-DD10847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249BB-3057-4E43-8B66-4FAE823D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E56FD-94DC-4BA7-89A5-BDCADAFA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A54C0-C587-4461-B445-7280AC47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C979B-B674-4695-BBDA-91B181D0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60D0B-8183-4785-A26F-0D438FE9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9FE01-03C8-4BC4-910E-CCB9FAF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E1496-D25F-4443-AC4C-EF72333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2D6CB-38E0-404C-B02D-1CC90EB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CDC11-B9AC-40EB-A0AB-DEC139A9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52B-DCC2-4B79-927F-0D0435D6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27523-1CF4-44E2-948F-16F7005E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95D6C-0B57-41C5-BC02-E2FCDFFD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FAA9A-462D-49F1-8615-F2C95A8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D5E31-51E4-4F87-A84F-A8E972F5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B303E-5E26-47EC-AF17-EE2317A2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3FB06-7BF7-4C13-A8B1-F9BE190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52C7F-4D02-414C-9B61-31223854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8523B-6441-40B7-AF15-ED23AF08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88CB1-79B7-475D-975C-ADAC9DC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F6C22-C8AE-436E-AE30-B2ED5BCC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26DB-90C7-43C1-93D8-9CC87B75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91EC6-71E2-4324-AD61-E8E8DB03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09CB1-DA50-4EB4-A846-C6824919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72B67-91A6-45BA-A76E-F7874D17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34FEB-E450-4B39-AB33-54612916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7B5E0-B307-4DF7-9A6C-44B5705D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7DE05-624A-46CE-A913-46719F1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6719E-C7B8-4F98-BCC3-9232298F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ED561-50B1-4FD1-8EFA-343D7AD0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E65FA-8992-46AD-826B-1DA7212C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A7115-F142-4A3C-A974-4CA21FA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C93C-F9CC-45F8-BC95-181ABF63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9874B-0EBF-47CC-83AD-9CAEBE6A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D1366-793C-4F1D-AFA5-6F082AF2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C5F82-DC25-477F-82FF-0EC8240C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95CD9-98DD-4B3A-AE50-4716D165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E20B4-D01F-461F-8DA1-FA43F2AF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4BB3-B742-4AC5-A61C-348905E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D34F-C592-41C1-86E5-FC829118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9E18-13DC-45FA-B71E-D63EC792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5F9E-9665-462F-9517-52DA601A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8F95-0237-4380-A4AF-DE212A43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F02-1DC7-44DC-B760-C49ADDAF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105-E8F5-46F4-A23A-169758B6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DE05-B635-4A1A-B588-8E9CCF6A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A205-49BA-4DA2-AE3C-7935DE6B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9261-ADF9-499F-9C62-B3908304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4BF5-86E8-46FC-BAC4-C91D25CB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B4BD-369E-454A-B32C-0D5E537A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9767-0EA3-4057-B92E-525FDFEE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CA74-3C0D-40A3-912A-6AFDF4F1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B24CB-7A6A-4687-BEB1-26AF4293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2D20-CF80-4CBF-8BDF-ADB6E45A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158-F5DF-4546-87CB-B4DFEB0C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5EFF-18AA-410F-A773-3E62AB98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7EF5-B4D0-40ED-99C8-30C7E31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4856-1B89-42CF-9416-F5DA5887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C377-BBF9-42FB-A97B-7D9BC49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B582-021B-41F2-8366-5A289FAE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C55F-5DC3-4500-994D-86AB84BA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B8AF-BA64-4D9F-AC4B-D07E772D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F323-485A-4CFE-AF0A-B2F2AE66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E783F-219B-4146-90B9-22D692F4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2F978-9E27-4153-9268-81DC49EB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D0D-C9D9-475D-A723-5A03AA3C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F35A-92D5-4BA7-BD78-9ED6580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14F1-6648-4EFC-90DC-0A74EA3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07C4-1F82-4ABB-AE13-C0FF558B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4388E-37DF-49CC-A5FD-2A8CD9E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CD2B-9FB8-4A95-82C6-617C7AD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9ED9-C838-4850-A7C4-190BE5BD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1B4D-0C8F-4DEC-8C94-4CC327CC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7FF7-6FA1-4E8C-8900-99CB6BDC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EE68-41D8-4DA6-9534-8A1E5645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ED7A-0EAC-4394-91A7-F3FB0CBE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92F-3C57-4789-8D20-AAD54F3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8480-D14A-4C4A-B8E9-4328535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D757-FAA7-4A76-910B-CEC73D24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B65A-3C04-4DC9-AADE-CBDF3F52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9E566-470B-4156-9DC1-79CE8227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5084D-2014-4E6F-B87B-AE256195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4515-F71F-4FD0-AEE8-C963E9C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788C9-5F44-4CDD-96E8-0631BBC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5FBA5-A64D-4897-AF90-99BE4BF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C3B9-36D1-4C16-92F9-F8F3F4CD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7083-B9FC-42AE-9BF1-C000A1B4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2D0-FD7F-45BC-B95A-9BAE77D4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47E3B-C18E-4035-BE47-6FC99F60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FA54-3E71-4255-9815-FC955E06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21FBE-690D-48F7-91F9-F2B851F1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1CFD5-67C3-4F17-BD45-4B5CFF35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23213-8BF5-4F5A-99CB-7F0A26D5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E04F-84FA-44AB-8AD9-D7A295B0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6AA30-D4F8-4995-9E22-75993F91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D4E5-03DC-4E8C-9F83-E26F2805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9BB3C-88CB-4EAC-BCFD-274699B3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99762-B5C0-40A8-9F59-3650696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503-0301-49A4-9BDD-CA4B0F8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F54B-AE00-4094-9D6C-B451E46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5D5F8-544A-4D43-9B38-D29D7C2E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A4F4-0D84-4DF1-BDB8-D732C4DF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76E7-F865-451D-93B3-F83F8F72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11D1-2E8A-4664-BC1F-1D643A4F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CCC12-B728-4603-9400-D1CB0C10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0C058-6D07-40D4-903E-DDEE3667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6871-4482-43AC-83D2-46C05B99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216C9-C82B-401A-8C80-FF873A31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5B90C-C99A-4E09-87F0-709D5F1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913-1396-4159-97FB-456F9AC3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E0F7D-9CBD-48EC-AF46-57263FD9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839E-291D-4D63-AC54-9A5C2E22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5E8F0-8272-4A90-9410-D57B016D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1EC04-A6E7-4FA6-9E53-BA610FC5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9571-7ECD-42AF-A846-0EDCC066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A7747-FEC4-4F2D-984F-3527E890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F2B22-0B9E-498D-9A42-7D402653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E2767-370E-4D0F-AB2E-D7FB2714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878C-2D36-4710-B1F3-B00B2F2B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713D8-F54D-4A86-80D9-069B02E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0A9-FE88-4FBD-9328-7167409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B0B2F-B125-4BA7-93FA-9DFE966C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05632-9305-4747-8307-2A80C3A5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E76FF-CE9B-476B-9437-49608A9A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6FEC5-91FA-43C7-ABE6-FF67FD99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5B772-16F0-4EED-A6C8-5DCB8D5F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DAC3A-5269-4D63-857E-1ECAB60A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DB1CA-5F00-4BD1-9C30-E5EB4011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1688D-2F70-48AE-83A6-AA96DCF4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35B10-6BF3-428E-BE9B-A7CCD19E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B02E6-0C85-4944-8F97-6A638E47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CA72-C0D6-461B-8D0C-30D429C82D3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C0B-9866-492E-BBDF-232E4003C0C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8992-7BEB-49BF-A056-573B0AB1B0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5F83-C1C0-448F-AFB4-AD70BB75E8F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F043-51A7-4D12-B283-47A1454DB4B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C263-8860-44BE-849B-65B27C3080E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69F1-4131-451C-923A-817437BF594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F727-8E3F-4C43-B90F-818849AC286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465-4AF5-4059-8D4A-D436F92984A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F113-C6F2-41A5-A6D5-0B6EB8698E0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192-533F-4FA6-930A-28F22718DAB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47F8-C938-41EC-948D-AF6BC76BCF3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93 Nový nastal r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ový nastal ro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ne, veď náš krok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o roku minuléh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bavuj pokušenia zlého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om v nás hriechu moc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íď nám na po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ijmi chválu, čes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tú vzácnu zv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s chráni tvoja ruk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ám milostivo nú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jnosť pokoj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esto rozbroj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asiteľu, sám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káž cestu nám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y poznáš našu mdlob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trach zo smrti, úzkosť hrobu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aj klesá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teba dúf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jlepšie ty vi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 kam nás doviesť chce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nám hrozí v žitia boj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ký úklad zloba stroj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to veď náš krok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ám po celý rok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13:03Z</dcterms:modified>
  <cp:revision>96</cp:revision>
  <dc:subject/>
  <dc:title>Je veľký náš Pán, on slávy je Kráľ Nech do všetkých strán  spev vrúcnych znie chvál.</dc:title>
</cp:coreProperties>
</file>